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810-9493-4036-9A5C-E1C26C6B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039-6EDA-48EA-8513-626F4232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B93-7176-4A40-8BFA-648D5777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D4C-A2DC-4C72-8224-C45F24E8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FC39-9E07-4438-A1CC-1D93A04E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4F0B-E55D-4932-9750-70A7F9F8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2C32-03BA-482D-B490-336E53E9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8C63-0C28-4ED9-8805-9ECFB3BA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F53D-DD79-4854-B48A-222D1BDD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08EB-563A-42A0-A8B6-4187E0E7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49B5-DC69-41D5-8511-2D522929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888-D3D9-4680-8110-DAF50F41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DA04-AE7B-4411-8C70-87C86C1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EB5C-D820-4013-94D4-FA7ADD6A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7F0E-80C1-4E11-B849-99437B61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C844-D4EE-4B99-B5AA-6A9D1AC9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E477-8D10-4027-8725-1E88EB67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DB3-1AB7-4125-980F-3DDCBF70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9D9-FA48-4596-9886-17C50DFF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2E8-36FE-401A-A972-D581CDE7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E5E-7E93-4252-8B4B-E2BBEDE1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F75-8556-4D29-A264-AF6C996F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D51-7C2D-4E71-9456-52EC048F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4CF-0B9E-4D65-86D3-72EFCF7D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97CA-0F28-4B9E-A1BD-6487CC6ECB59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BB16-2E5B-4438-A8F8-834C599CF2A1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7734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IELOKĄ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DZAJE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97000" y="2394000"/>
          <a:ext cx="751680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2394000"/>
                    <a:ext cx="75168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ZNACZENI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1449360"/>
          <a:ext cx="6518160" cy="25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49360"/>
                    <a:ext cx="651816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542960" y="1233360"/>
          <a:ext cx="673740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2960" y="1233360"/>
                    <a:ext cx="673740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66240" y="4365000"/>
            <a:ext cx="60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odaj odcinki z jakich zbudowana jest figura I; III i V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300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dcink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 jakich zbudowana jest figura nazywamy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okami figu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spólne punk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dcinków nazywamy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wierzchołka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gu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591560"/>
            <a:ext cx="66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Nazwa wielokąta zależy od liczby jego kątów wewnętr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2673360"/>
          <a:ext cx="792144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73360"/>
                    <a:ext cx="792144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0200" y="123300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. Oznacz wierzchołki, zaznacz kąty i podaj nazwę fig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Obraz 174" descr=""/>
          <p:cNvPicPr/>
          <p:nvPr/>
        </p:nvPicPr>
        <p:blipFill>
          <a:blip r:embed="rId1"/>
          <a:stretch/>
        </p:blipFill>
        <p:spPr>
          <a:xfrm>
            <a:off x="2411280" y="2241720"/>
            <a:ext cx="44658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1233000"/>
            <a:ext cx="836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. Które z figur przedstawionych na rysunku nie są wielokątami i dlacze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182" descr=""/>
          <p:cNvPicPr/>
          <p:nvPr/>
        </p:nvPicPr>
        <p:blipFill>
          <a:blip r:embed="rId1"/>
          <a:stretch/>
        </p:blipFill>
        <p:spPr>
          <a:xfrm>
            <a:off x="1511280" y="2421000"/>
            <a:ext cx="65167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040" y="1689120"/>
            <a:ext cx="8492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Wielokąty to figury geometryczne, które maj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kąt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wierzchołki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bok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3:39Z</dcterms:modified>
  <cp:revision>23</cp:revision>
  <dc:subject/>
  <dc:title>Slajd 1</dc:title>
</cp:coreProperties>
</file>